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33E-E05E-4DA9-A5F7-92739020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6F2-10A8-4DF5-A808-89A9E7D0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CC1-9EE5-42CB-B09C-C304B0C7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590-0D85-47BC-B9C8-EDC0F2C6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F0C-2759-4454-B4A3-1283BEC4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27A-A7DC-434D-B890-FB58FD3F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65B-E167-4F32-A0E5-320D49AE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45C-E2D0-4A42-9351-F28B9CF6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3B5-05F0-47FC-BDE1-45650D7D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B96-3F3A-4032-9560-9216412E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22E-B9AC-4721-9130-4A0A66CE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57C-BE59-4045-89FF-EF239B16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1924-3C64-49C6-9B31-5C7B35102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3.5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ich figure is a polyg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Hexagon 3"/>
          <p:cNvSpPr/>
          <p:nvPr/>
        </p:nvSpPr>
        <p:spPr>
          <a:xfrm>
            <a:off x="380880" y="1981080"/>
            <a:ext cx="2590920" cy="228600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Elbow Connector 7"/>
          <p:cNvCxnSpPr/>
          <p:nvPr/>
        </p:nvCxnSpPr>
        <p:spPr>
          <a:xfrm flipH="1" rot="16200000">
            <a:off x="6324480" y="2361600"/>
            <a:ext cx="251532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45" name="Sun 8"/>
          <p:cNvSpPr/>
          <p:nvPr/>
        </p:nvSpPr>
        <p:spPr>
          <a:xfrm>
            <a:off x="3352680" y="1752480"/>
            <a:ext cx="2667240" cy="28195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2:44:58Z</dcterms:created>
  <dc:creator>2012Taormira</dc:creator>
  <dc:description/>
  <dc:language>en-US</dc:language>
  <cp:lastModifiedBy>2012Taormira</cp:lastModifiedBy>
  <dcterms:modified xsi:type="dcterms:W3CDTF">2009-11-06T12:49:48Z</dcterms:modified>
  <cp:revision>1</cp:revision>
  <dc:subject/>
  <dc:title>Section 3.5 Objective 1</dc:title>
</cp:coreProperties>
</file>